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AE7-4CED-43FD-B837-EFB98C1B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55D-6135-4C4C-A8C2-C46D2D70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B25-227A-442D-BF24-0F8D29D7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D08-885E-4C48-B0EF-4B368A5B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2F7AE-72D3-45E7-B97C-77F03B80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BEAA2-3271-481B-AC46-89AD8E1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4888D-D47C-4577-BD40-7CCD5474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4C5B-6F1A-40D8-82C7-2B4EA84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2841B-C70C-4F4B-B0B3-B6270E00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AF5A2-830E-4CC9-9F6C-AD9E228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34F8-AB27-42EC-A55F-1B171900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065-3D79-48EB-8169-664879E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E5F18-7A71-46D7-ADC3-E9291AC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9D4BC-CAAC-4316-BDD2-23F9A9A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EA8F9-7F1C-481C-AEC0-DC30154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E3A5-76D3-4C58-BDCD-CC38083D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28C74-7360-4FF7-91B7-0F24B012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F88-C102-4561-A727-96FDDCC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1BC-1886-4B94-A089-C69E1F0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1FA-CF54-4BD9-A172-C39A016F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B80-3621-4703-9677-7F1D1BC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B30-5881-42D1-92B3-7874429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9E2-8723-48D7-A3BE-C91D958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CF5-C390-4D32-A780-A11789D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D99-684D-4C37-98AA-8C196CE8C1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EF4-D6BB-4D13-A329-9377E067C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als for Revising a Business Let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will be able 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stand that business letters are efficient for the read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and implement the three parts of a business letter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eciate a deeper understanding of the revision phase of the writing process as it pertains to business wri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e business letters focusing on making them more conci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e business letters making them reader friendly by including pertinent information for th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) Closing/Conclusion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with a call for action (What should the reader do? When? Any future contact? How?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’m not a very good writer, but I’m an excellent rewri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James Mich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ert Voice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ffey, M. E. (2010). Essentials of Business Communication. Mason: South-Western Cengage Learn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lton, J. (1996). Handbook for Technical Writing. Chicago: N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Rys, J., Meyer, V., &amp; Sebranek, P. (2006). The Business Writer. Boston: Houghton Miffl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first draft of anything is sh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Ernest Heming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ue or Fals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ise writing gives only needed information to the r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ise Writing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exactly what the reader needs and not a bit more or less. Bloated writing with superfluous information serves to confuse and obscure… There is nothing that will kill a reader’s interest faster than rambling writing that takes five pages to say what could be said in one paragrap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ood writing is rewriting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Truman Capo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etter typically sends a message to someone outside of your company/ organiz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letters always contains THREE parts (not necessarily thre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a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) Opening/Introduction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reason/situation for writing, including any necessary background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) Middle/Body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a full explanation logically and courteously including any supporting detai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3:46:21Z</dcterms:created>
  <dc:creator>Salinger</dc:creator>
  <dc:description/>
  <dc:language>en-US</dc:language>
  <cp:lastModifiedBy>Salinger</cp:lastModifiedBy>
  <dcterms:modified xsi:type="dcterms:W3CDTF">2011-06-19T17:29:25Z</dcterms:modified>
  <cp:revision>17</cp:revision>
  <dc:subject/>
  <dc:title>Slide 1</dc:title>
</cp:coreProperties>
</file>